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9F4-43D6-48FD-A1A2-2C895395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111-9E68-4556-A476-762127C8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FA1-D0CC-4149-9C0B-EB023F6A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7F1-8710-455D-B52B-EB6BB92B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5063-4965-4D60-896A-391CDDF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91A-BBBE-4199-94B2-C7606A7B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6A52-53B6-4BD8-B578-7CE886E4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CB4-CB5C-410D-810F-065B2C1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E846-BB72-4FB4-8E28-F8C3672E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EFAE-7B6E-411F-BDDA-C84AE39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3754-0958-4E44-893D-E95094C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E4D-C299-41F3-ACE6-973C2B3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252-EB7C-4D56-9D34-66EC45D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F5C-72A8-4DE0-9E2A-E537AE9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9129-8823-4221-80AC-85FCC2B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538-7CB3-4995-8690-2F8FF1D1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43D2-730B-4743-A0DA-25638CBE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A17-F893-4627-81BD-C31EDDC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3B9-3424-4492-B5E8-9F77F635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835-44F3-46E1-96E7-DA57560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D29-0B97-45E6-A112-71A65484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57A-E2B3-4C20-9DA2-63441F6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DE6-7661-4505-903E-847B0DC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64B-5C59-4ACE-9539-856C58D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94E-9B73-4CD7-A6EC-CCB4C7EF359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F625-EDDF-49F1-9F76-73DBC3024A8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8288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cience is undergoing a major shift in instructional methods, moving from from content-based instruction to developmental instruction of concepts and processes, with the emphasis being placed to a greater degree on researc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12760" cy="1930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38088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cience and technology succeed when instruction is based on the values that support our society. Examples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61936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Crea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Curios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Open-minded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Discipl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Objec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kepticis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4648320"/>
            <a:ext cx="303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6370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715000" y="2362320"/>
            <a:ext cx="2854440" cy="12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Table of Content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43000"/>
            <a:ext cx="7315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Hierarchic Structure of Benchmark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trand E Earth and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Investigating SCE1.2.4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Question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Investigating SCE 1.2.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Question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Investigating SCE 1.4.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066680"/>
            <a:ext cx="80769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ool Web Si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ool CD’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ool Vide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ool Book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barnesandnoble.c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Other Kool Stuf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3944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Comic Sans MS"/>
              </a:rPr>
              <a:t>Hierarchic Structure of </a:t>
            </a:r>
            <a:br>
              <a:rPr sz="4800"/>
            </a:br>
            <a:r>
              <a:rPr b="0" lang="en-US" sz="4800" spc="-1" strike="noStrike">
                <a:solidFill>
                  <a:srgbClr val="004c2b"/>
                </a:solidFill>
                <a:latin typeface="Comic Sans MS"/>
              </a:rPr>
              <a:t>Strands, Standards, </a:t>
            </a:r>
            <a:br>
              <a:rPr sz="4800"/>
            </a:br>
            <a:r>
              <a:rPr b="0" lang="en-US" sz="4800" spc="-1" strike="noStrike">
                <a:solidFill>
                  <a:srgbClr val="004c2b"/>
                </a:solidFill>
                <a:latin typeface="Comic Sans MS"/>
              </a:rPr>
              <a:t>and Benchmarks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971800"/>
            <a:ext cx="5410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ubject area -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trand - Earth and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tandard - General Sta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Benchmark - Learner Expec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3146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Strand E </a:t>
            </a:r>
            <a:br>
              <a:rPr sz="5400"/>
            </a:b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Earth and Space </a:t>
            </a:r>
            <a:br>
              <a:rPr sz="5400"/>
            </a:b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(3-5)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648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1. The student understands the interactions and organization in the Solar System and the Universe and how this affects life on Ear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295416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LOBEWST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3473280" cy="352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1720" y="369720"/>
            <a:ext cx="750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Investigating Strand E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Benchmark S.C.E. 1.2.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514600"/>
            <a:ext cx="44532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The Student: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nows that the planets differ in size, characteristics, and composition and that they orbit the Sun in our Solar System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47640"/>
            <a:ext cx="84582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Question: How can I compare the planets and their compositions?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757600"/>
            <a:ext cx="80769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eds.lpl.arizona.edu/nineplanets/ nineplan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dkrz.de/mirror/tnp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geocities.com/CapeCanaveral/Lab/2683/planethm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43800" y="1981080"/>
            <a:ext cx="1011240" cy="2667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0760" y="457200"/>
            <a:ext cx="769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Investigating Strand E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Benchmark S.C.E. 1.2.5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7480" y="3200400"/>
            <a:ext cx="4822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The Student: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Understands th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arrangement of planet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in our Solar System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219320" cy="3386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Question: How do I</a:t>
            </a:r>
            <a:r>
              <a:rPr b="1" lang="en-US" sz="5400" spc="-1" strike="noStrike">
                <a:solidFill>
                  <a:srgbClr val="004c2b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explain the relationship between the </a:t>
            </a:r>
            <a:br>
              <a:rPr sz="4400"/>
            </a:b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planets in the Solar System</a:t>
            </a:r>
            <a:r>
              <a:rPr b="1" lang="en-US" sz="5400" spc="-1" strike="noStrike">
                <a:solidFill>
                  <a:srgbClr val="004c2b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8195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Lynx.dac.neu.edu/c/cers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est.dcn.davis.caus/go/anhance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plane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rip.physics.unk.edu/astronomy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LGM(5-12)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nasm.edu/ceps/ET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olarsystem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Investigating Strand E</a:t>
            </a:r>
            <a:br>
              <a:rPr sz="5400"/>
            </a:b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Benchmark S.C.E. 1.4.2 (9-12)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774880"/>
            <a:ext cx="533412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The Student: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nows how the characteristics of other planets and satellites are similar to and different from those of the Ear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743200" cy="281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Comic Sans MS"/>
              </a:rPr>
              <a:t>Question: How can I compare the Earth to the other planets in the Solar system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dir.yahoo.com/Science/Astronomy/Planetaria (Multiple links to various sit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dir.yahoo.com/Science/Astronomy/Solar_System/ (Multiple links to various sit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132760" y="1447920"/>
            <a:ext cx="101124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Kool Web Site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NASA/JPL/Planetary Photojour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JPL/welcome to the Plan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USGS-Browse the Solar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pace Telescope Science Institu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www.dir.yahoo.com/Science/Astronomy/Planeta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www.dir.yahoo.com/Science/Astronomy/Solar_System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Kool CD’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Williams, John </a:t>
            </a:r>
            <a:r>
              <a:rPr b="0" i="1" lang="en-US" sz="3200" spc="-1" strike="noStrike">
                <a:solidFill>
                  <a:srgbClr val="333333"/>
                </a:solidFill>
                <a:latin typeface="Comic Sans MS"/>
              </a:rPr>
              <a:t>Pops in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Williams, John</a:t>
            </a:r>
            <a:r>
              <a:rPr b="0" i="1" lang="en-US" sz="3200" spc="-1" strike="noStrike">
                <a:solidFill>
                  <a:srgbClr val="333333"/>
                </a:solidFill>
                <a:latin typeface="Comic Sans MS"/>
              </a:rPr>
              <a:t> Star Wa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Williams, John</a:t>
            </a:r>
            <a:r>
              <a:rPr b="0" i="1" lang="en-US" sz="3200" spc="-1" strike="noStrike">
                <a:solidFill>
                  <a:srgbClr val="333333"/>
                </a:solidFill>
                <a:latin typeface="Comic Sans MS"/>
              </a:rPr>
              <a:t> The Empire Strikes Bac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293868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Kool Videos from amazon.com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ennedy Space Center - Window to the Univer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Lift Off to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Lost in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he Magic School Bus Gets Lost in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133360" cy="966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Kool Book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Cole, Joanna </a:t>
            </a:r>
            <a:r>
              <a:rPr b="0" i="1" lang="en-US" sz="3000" spc="-1" strike="noStrike">
                <a:solidFill>
                  <a:srgbClr val="333333"/>
                </a:solidFill>
                <a:latin typeface="Comic Sans MS"/>
              </a:rPr>
              <a:t>The Magic School Bus Lost in the Solar System </a:t>
            </a: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(New York:Scholastic, Inc. 1990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Getz, David </a:t>
            </a:r>
            <a:r>
              <a:rPr b="0" i="1" lang="en-US" sz="3000" spc="-1" strike="noStrike">
                <a:solidFill>
                  <a:srgbClr val="333333"/>
                </a:solidFill>
                <a:latin typeface="Comic Sans MS"/>
              </a:rPr>
              <a:t>Life on Mars </a:t>
            </a: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(New York: Henry Holt,, 1997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Sepiera, Paul P. </a:t>
            </a:r>
            <a:r>
              <a:rPr b="0" i="1" lang="en-US" sz="3000" spc="-1" strike="noStrike">
                <a:solidFill>
                  <a:srgbClr val="333333"/>
                </a:solidFill>
                <a:latin typeface="Comic Sans MS"/>
              </a:rPr>
              <a:t>The Solar System </a:t>
            </a: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(New York: The Children’s Press, 1997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Branley, Franklyn M. </a:t>
            </a:r>
            <a:r>
              <a:rPr b="0" i="1" lang="en-US" sz="3000" spc="-1" strike="noStrike">
                <a:solidFill>
                  <a:srgbClr val="333333"/>
                </a:solidFill>
                <a:latin typeface="Comic Sans MS"/>
              </a:rPr>
              <a:t>Saturn: The Spectacular Planet</a:t>
            </a:r>
            <a:r>
              <a:rPr b="0" lang="en-US" sz="3000" spc="-1" strike="noStrike">
                <a:solidFill>
                  <a:srgbClr val="333333"/>
                </a:solidFill>
                <a:latin typeface="Comic Sans MS"/>
              </a:rPr>
              <a:t> (New York:Thomas Crowell,1983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283120" cy="127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At Your Local barnesandnoble.com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he Planets in Our Solar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he Magic School Bus - Hello Out The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Planets - A guide to the Solar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Make Your Own Solar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1000 Facts About 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Stars and Plan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24480" y="5105520"/>
            <a:ext cx="2438640" cy="1633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Creating Independence through Student-owned Strategi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Ground Rules -Set the framewor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KWL charts - Know, Want to Know, Lear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Concept mapp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Brainstor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hink-Share-Pai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Opinion-Proo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Two column notes - Main idea/detai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Venn Diagra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c2b"/>
                </a:solidFill>
                <a:latin typeface="Comic Sans MS"/>
              </a:rPr>
              <a:t>Other Kool Stuff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KoolWeb Si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Kool CD’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Kool Videos from amazon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Kool Book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barnesandnoble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CRISS strategi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76520" y="3809880"/>
            <a:ext cx="5410080" cy="23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The End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257800" cy="2695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733560" cy="358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90720" y="76212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cience, Technology, and Society</a:t>
            </a:r>
            <a:endParaRPr b="0" lang="en-US" sz="2400" spc="1" strike="noStrike">
              <a:ln cap="sq"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 advTm="10000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Comic Sans MS"/>
              </a:rPr>
              <a:t>Presented By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819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In Alphabetical Ord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09680" y="3809880"/>
            <a:ext cx="3138480" cy="133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3787920"/>
            <a:ext cx="1371600" cy="1393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omasina Alexand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Empowering Young Minds Academ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Physical Scien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balex@hotmail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762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33"/>
                </a:solidFill>
                <a:uFillTx/>
                <a:latin typeface="Comic Sans MS"/>
              </a:rPr>
              <a:t>Curriculum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096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David Hog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Project Engineer/Product  Administr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JM Family/Toyo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DHogan3228@aol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1524240" cy="39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8380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33"/>
                </a:solidFill>
                <a:uFillTx/>
                <a:latin typeface="Comic Sans MS"/>
              </a:rPr>
              <a:t>Communicatio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19160" y="2437920"/>
            <a:ext cx="5715000" cy="29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Mark Luc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Raines High Scho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Earth Scien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Lucasfla@aol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905120" cy="394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38280" y="8380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33"/>
                </a:solidFill>
                <a:uFillTx/>
                <a:latin typeface="Comic Sans MS"/>
              </a:rPr>
              <a:t>Project Manager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7467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Rose Tayl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Ft. Caroline Middle Scho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General Scien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rtaylor26@bellsouth.ne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371600" cy="3927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33720" y="9144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33"/>
                </a:solidFill>
                <a:uFillTx/>
                <a:latin typeface="Comic Sans MS"/>
              </a:rPr>
              <a:t>Public Relation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90920" y="2057400"/>
            <a:ext cx="72388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ess Schneid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Stilwell Middle Scho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Computer Technolog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schneidert2@yahoo.co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20574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8380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33"/>
                </a:solidFill>
                <a:uFillTx/>
                <a:latin typeface="Comic Sans MS"/>
              </a:rPr>
              <a:t>Technology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5:58:12Z</dcterms:created>
  <dc:creator>J. Stilwell Middle School</dc:creator>
  <dc:description/>
  <dc:language>en-US</dc:language>
  <cp:lastModifiedBy>ANDREW ROBINSON</cp:lastModifiedBy>
  <dcterms:modified xsi:type="dcterms:W3CDTF">1999-05-21T19:13:46Z</dcterms:modified>
  <cp:revision>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unf.edu/coehs/trda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AER\so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